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1E7D-1312-4B59-95BF-DFB0F31B5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D0BF-C6DA-4C5F-90E7-A88F12564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1A38-89BC-46D7-A380-86A08AB1A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C7D3-047E-4A1C-9A18-CF05398F3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EDB-113E-4EFF-9044-7B1F3A19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A50-C7EF-40D8-9FD6-879AAFEA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4DF-6785-425E-988A-B2CA8A4E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408-516E-4DCB-ACC7-6E1749EA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EFC-986E-45ED-923E-50635F90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324-0753-439F-A52F-E45C15C9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A8A-2490-4535-9AAF-5F858DDB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735-CE48-460E-944F-E74E1261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0C2-7CA4-48AD-BAF7-EF2B63CB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1C7-90B3-4A9E-BDA7-5D3E3184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A8A-738C-4201-979E-8A4F3940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168-2FBE-4D62-814A-B6D486F5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391E-6A6B-4435-BEB2-74D754C26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hyperlink" Target="http://www.learnquebec.ca/en/content/curriculum/social_sciences/features/missingpages/images/u1p9.gif" TargetMode="External"/><Relationship Id="rId10" Type="http://schemas.openxmlformats.org/officeDocument/2006/relationships/image" Target="../media/image3.jpeg"/><Relationship Id="rId11" Type="http://schemas.openxmlformats.org/officeDocument/2006/relationships/hyperlink" Target="http://www.worst-city.com/small-photos/well-dressed-fashionable-young-black-girl-african-slave-trade-child-abuse-sex-trade.jpg" TargetMode="External"/><Relationship Id="rId12" Type="http://schemas.openxmlformats.org/officeDocument/2006/relationships/image" Target="../media/image4.jpeg"/><Relationship Id="rId13" Type="http://schemas.openxmlformats.org/officeDocument/2006/relationships/hyperlink" Target="http://www.worst-city.com/small-photos/well-dressed-fashionable-young-black-girl-african-slave-trade-child-abuse-sex-trade.jpg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bullittlickbaptist.org/BLBCBlog/wp-content/uploads/2010/01/jonathanedwardssmallbw.jpg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bullittlickbaptist.org/BLBCBlog/wp-content/uploads/2010/01/jonathanedwardssmallbw.jpg" TargetMode="External"/><Relationship Id="rId18" Type="http://schemas.openxmlformats.org/officeDocument/2006/relationships/image" Target="../media/image5.jpeg"/><Relationship Id="rId19" Type="http://schemas.openxmlformats.org/officeDocument/2006/relationships/image" Target="../media/image6.jpeg"/><Relationship Id="rId20" Type="http://schemas.openxmlformats.org/officeDocument/2006/relationships/hyperlink" Target="http://www.lessing-photo.com/p3/250101/25010120.jpg" TargetMode="External"/><Relationship Id="rId21" Type="http://schemas.openxmlformats.org/officeDocument/2006/relationships/image" Target="../media/image7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hyperlink" Target="http://earlychurch.com/images/zz-1700-02.jpg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seacoastnh.com/arts/res/moulton1.jpeg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hyperlink" Target="http://earlychurch.com/images/zz-1700-01.jpg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hyperlink" Target="http://earlychurch.com/images/zz-1700-02.jpg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seacoastnh.com/arts/res/moulton1.jpeg" TargetMode="External"/><Relationship Id="rId11" Type="http://schemas.openxmlformats.org/officeDocument/2006/relationships/image" Target="../media/image9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y Berry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eing from Boston goin to new jersey wish me luc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ky Be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Beck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Beck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Beck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Arial"/>
              </a:rPr>
              <a:t>Society of Mai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18, 17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Occup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ston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0" y="5791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2"/>
          <p:cNvSpPr/>
          <p:nvPr/>
        </p:nvSpPr>
        <p:spPr>
          <a:xfrm>
            <a:off x="685800" y="5791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5"/>
          <p:cNvSpPr/>
          <p:nvPr/>
        </p:nvSpPr>
        <p:spPr>
          <a:xfrm>
            <a:off x="1219320" y="579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ter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0"/>
          <p:cNvSpPr/>
          <p:nvPr/>
        </p:nvSpPr>
        <p:spPr>
          <a:xfrm>
            <a:off x="0" y="6553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am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609480" y="6553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Seym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ky Berry 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eeing from Boston goin to new jersey wish me luck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5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 Gardner - Becky Berry 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l Isabel im doin fine and not to wor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 - Becky Berry 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n’t forget to go to the market tonight for my din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7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ky Berr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goin to a hanging tonight … lots of fun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 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ky Berry -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e slave girls Isabel and Ruth are very nice to be ar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3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ky Berry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Lockton just bought 2 new slave girls hope there n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9" descr="http://museumnetworkuk.org/portraits/artworks/holburne/large/img10.jpg"/>
          <p:cNvPicPr/>
          <p:nvPr/>
        </p:nvPicPr>
        <p:blipFill>
          <a:blip r:embed="rId4"/>
          <a:stretch/>
        </p:blipFill>
        <p:spPr>
          <a:xfrm>
            <a:off x="152280" y="4572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9" descr="http://museumnetworkuk.org/portraits/artworks/holburne/large/img10.jpg"/>
          <p:cNvPicPr/>
          <p:nvPr/>
        </p:nvPicPr>
        <p:blipFill>
          <a:blip r:embed="rId5"/>
          <a:stretch/>
        </p:blipFill>
        <p:spPr>
          <a:xfrm>
            <a:off x="2133720" y="251460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9" descr="http://museumnetworkuk.org/portraits/artworks/holburne/large/img10.jpg"/>
          <p:cNvPicPr/>
          <p:nvPr/>
        </p:nvPicPr>
        <p:blipFill>
          <a:blip r:embed="rId6"/>
          <a:stretch/>
        </p:blipFill>
        <p:spPr>
          <a:xfrm>
            <a:off x="2133720" y="457200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9" descr="http://museumnetworkuk.org/portraits/artworks/holburne/large/img10.jpg"/>
          <p:cNvPicPr/>
          <p:nvPr/>
        </p:nvPicPr>
        <p:blipFill>
          <a:blip r:embed="rId7"/>
          <a:stretch/>
        </p:blipFill>
        <p:spPr>
          <a:xfrm>
            <a:off x="2133720" y="525780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http://museumnetworkuk.org/portraits/artworks/holburne/large/img10.jpg"/>
          <p:cNvPicPr/>
          <p:nvPr/>
        </p:nvPicPr>
        <p:blipFill>
          <a:blip r:embed="rId8"/>
          <a:stretch/>
        </p:blipFill>
        <p:spPr>
          <a:xfrm>
            <a:off x="2133720" y="586728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5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5257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1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52280" y="5257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1" descr="See full size ima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133720" y="320040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3" descr="See full size ima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133720" y="38098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3" descr="See full size ima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219320" y="5257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5" descr="http://2.bp.blogspot.com/_CvDCiEFbNy8/SzbN3iDftLI/AAAAAAAAMlY/Jf63OzHoGdA/s400/Johann+Valentin+Haidt+(1700-1780)+Moravian+Archives,+Bethlehem,+Pennsylvania.jpg"/>
          <p:cNvPicPr/>
          <p:nvPr/>
        </p:nvPicPr>
        <p:blipFill>
          <a:blip r:embed="rId19"/>
          <a:stretch/>
        </p:blipFill>
        <p:spPr>
          <a:xfrm>
            <a:off x="152280" y="60199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7" descr="See full size imag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858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524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y Berry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eing from Boston goin to new jersey wish me luc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ky Be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Berr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Berr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Ber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ety of Mai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Occup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ston, 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ociety of Mai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cember 18, 17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oston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Occupatio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2133720" y="3200400"/>
            <a:ext cx="44956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leaning up after my master, Cooking, and watching the sla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Watching  public 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ach, Beethoven, and Han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Phantom of the Opera, and any other Shakespeare plays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anny, Pai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omeo and Juliet and the series of A Midsummer Night’s dre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838080" y="54864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Slave Gir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Lockton’s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54 Wall Street  New York City, NY 10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12)-704-34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981080" y="838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9" descr="http://museumnetworkuk.org/portraits/artworks/holburne/large/img10.jpg"/>
          <p:cNvPicPr/>
          <p:nvPr/>
        </p:nvPicPr>
        <p:blipFill>
          <a:blip r:embed="rId5"/>
          <a:stretch/>
        </p:blipFill>
        <p:spPr>
          <a:xfrm>
            <a:off x="152280" y="4572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3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6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95880"/>
            <a:ext cx="685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4952880"/>
            <a:ext cx="38098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85800" y="4952880"/>
            <a:ext cx="259092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ky Be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685800" y="1752480"/>
            <a:ext cx="7467480" cy="274320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Beck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ky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762120" y="6172200"/>
            <a:ext cx="99036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Slave Gir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2057400" y="617220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Lockton’s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3352680" y="6172200"/>
            <a:ext cx="9907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y Berry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ing from Boston goin to new jersey wish me luc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7" descr="http://museumnetworkuk.org/portraits/artworks/holburne/large/img10.jpg"/>
          <p:cNvPicPr/>
          <p:nvPr/>
        </p:nvPicPr>
        <p:blipFill>
          <a:blip r:embed="rId3"/>
          <a:stretch/>
        </p:blipFill>
        <p:spPr>
          <a:xfrm>
            <a:off x="3276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9" descr="http://mickmaurer.com/sitebuilder/images/Jan-Vermeer_milkMaid_f-290x329.jpg"/>
          <p:cNvPicPr/>
          <p:nvPr/>
        </p:nvPicPr>
        <p:blipFill>
          <a:blip r:embed="rId4"/>
          <a:stretch/>
        </p:blipFill>
        <p:spPr>
          <a:xfrm>
            <a:off x="2133720" y="19051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1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31240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9" descr="http://museumnetworkuk.org/portraits/artworks/holburne/large/img10.jpg"/>
          <p:cNvPicPr/>
          <p:nvPr/>
        </p:nvPicPr>
        <p:blipFill>
          <a:blip r:embed="rId7"/>
          <a:stretch/>
        </p:blipFill>
        <p:spPr>
          <a:xfrm>
            <a:off x="152280" y="4572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3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5105520"/>
            <a:ext cx="1181160" cy="99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7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9" descr="See full size image"/>
          <p:cNvPicPr/>
          <p:nvPr/>
        </p:nvPicPr>
        <p:blipFill>
          <a:blip r:embed="rId12"/>
          <a:stretch/>
        </p:blipFill>
        <p:spPr>
          <a:xfrm>
            <a:off x="3505320" y="3124080"/>
            <a:ext cx="1371600" cy="129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1" descr="http://www.intofineart.com/upload/file-admin/images/new23/Jean%20Simeon%20Chardin-998879.jpg"/>
          <p:cNvPicPr/>
          <p:nvPr/>
        </p:nvPicPr>
        <p:blipFill>
          <a:blip r:embed="rId13"/>
          <a:stretch/>
        </p:blipFill>
        <p:spPr>
          <a:xfrm>
            <a:off x="83808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3" descr="Jean-Baptiste Greuze's oil painting The Broken Mirror 1763"/>
          <p:cNvPicPr/>
          <p:nvPr/>
        </p:nvPicPr>
        <p:blipFill>
          <a:blip r:embed="rId14"/>
          <a:stretch/>
        </p:blipFill>
        <p:spPr>
          <a:xfrm>
            <a:off x="4952880" y="19051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5" descr="See full size image"/>
          <p:cNvPicPr/>
          <p:nvPr/>
        </p:nvPicPr>
        <p:blipFill>
          <a:blip r:embed="rId15"/>
          <a:stretch/>
        </p:blipFill>
        <p:spPr>
          <a:xfrm>
            <a:off x="3505320" y="19051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7" descr="http://www.museum.ru/museum/primitiv/catalog/JK_0010p.jpg"/>
          <p:cNvPicPr/>
          <p:nvPr/>
        </p:nvPicPr>
        <p:blipFill>
          <a:blip r:embed="rId16"/>
          <a:stretch/>
        </p:blipFill>
        <p:spPr>
          <a:xfrm>
            <a:off x="838080" y="3124080"/>
            <a:ext cx="11620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2T18:55:34Z</dcterms:modified>
  <cp:revision>30</cp:revision>
  <dc:subject/>
  <dc:title>Profile</dc:title>
</cp:coreProperties>
</file>